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27.gif" ContentType="image/gi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8C7B5-81FC-44D0-A7F0-4C4E25FB33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5358E-6A82-4A0E-BD06-420D27709B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506520" y="257292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74560" y="1633680"/>
            <a:ext cx="8153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用“四舍法”试商的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6"/>
          <p:cNvSpPr/>
          <p:nvPr/>
        </p:nvSpPr>
        <p:spPr>
          <a:xfrm>
            <a:off x="1062000" y="1646280"/>
            <a:ext cx="66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长的电线，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剪成一段，可以剪成几段， 还剩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2251080" y="3138480"/>
            <a:ext cx="45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0÷7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        3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可以剪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段，还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4322880" y="30639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7"/>
          <p:cNvGrpSpPr/>
          <p:nvPr/>
        </p:nvGrpSpPr>
        <p:grpSpPr>
          <a:xfrm>
            <a:off x="957240" y="1062720"/>
            <a:ext cx="5102280" cy="733680"/>
            <a:chOff x="957240" y="1062720"/>
            <a:chExt cx="5102280" cy="733680"/>
          </a:xfrm>
        </p:grpSpPr>
        <p:pic>
          <p:nvPicPr>
            <p:cNvPr id="23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3"/>
            <p:cNvSpPr/>
            <p:nvPr/>
          </p:nvSpPr>
          <p:spPr>
            <a:xfrm>
              <a:off x="1279440" y="1062720"/>
              <a:ext cx="4780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1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6"/>
          <p:cNvSpPr/>
          <p:nvPr/>
        </p:nvSpPr>
        <p:spPr>
          <a:xfrm>
            <a:off x="952560" y="13352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路工人要检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长的铁轨，需要多少天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2892600" y="43419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44÷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组合 1"/>
          <p:cNvGrpSpPr/>
          <p:nvPr/>
        </p:nvGrpSpPr>
        <p:grpSpPr>
          <a:xfrm>
            <a:off x="2825640" y="2305080"/>
            <a:ext cx="3397320" cy="1440000"/>
            <a:chOff x="2825640" y="2305080"/>
            <a:chExt cx="3397320" cy="1440000"/>
          </a:xfrm>
        </p:grpSpPr>
        <p:pic>
          <p:nvPicPr>
            <p:cNvPr id="237" name="Picture 5" descr=""/>
            <p:cNvPicPr/>
            <p:nvPr/>
          </p:nvPicPr>
          <p:blipFill>
            <a:blip r:embed="rId1"/>
            <a:stretch/>
          </p:blipFill>
          <p:spPr>
            <a:xfrm>
              <a:off x="2825640" y="2305080"/>
              <a:ext cx="22816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"/>
            <p:cNvPicPr/>
            <p:nvPr/>
          </p:nvPicPr>
          <p:blipFill>
            <a:blip r:embed="rId2"/>
            <a:stretch/>
          </p:blipFill>
          <p:spPr>
            <a:xfrm>
              <a:off x="5107320" y="2305080"/>
              <a:ext cx="1115640" cy="54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6"/>
          <p:cNvSpPr/>
          <p:nvPr/>
        </p:nvSpPr>
        <p:spPr>
          <a:xfrm>
            <a:off x="1171440" y="14986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运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货物，需要多少节车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2263680" y="4241880"/>
            <a:ext cx="34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4÷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车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649600" y="2144880"/>
            <a:ext cx="377496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6"/>
          <p:cNvSpPr/>
          <p:nvPr/>
        </p:nvSpPr>
        <p:spPr>
          <a:xfrm>
            <a:off x="1239840" y="117144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乌龟的寿命大约是长颈鹿寿命的多少倍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5"/>
          <p:cNvSpPr/>
          <p:nvPr/>
        </p:nvSpPr>
        <p:spPr>
          <a:xfrm>
            <a:off x="1757520" y="3705120"/>
            <a:ext cx="63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1÷19≈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乌龟的寿命大约是长颈鹿寿命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1239840" y="2046240"/>
            <a:ext cx="65944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449360" y="2071800"/>
            <a:ext cx="6141960" cy="2081160"/>
          </a:xfrm>
          <a:prstGeom prst="rect">
            <a:avLst/>
          </a:prstGeom>
          <a:ln w="0">
            <a:noFill/>
          </a:ln>
        </p:spPr>
      </p:pic>
      <p:sp>
        <p:nvSpPr>
          <p:cNvPr id="246" name="矩形 4"/>
          <p:cNvSpPr/>
          <p:nvPr/>
        </p:nvSpPr>
        <p:spPr>
          <a:xfrm>
            <a:off x="2355840" y="464976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4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1106280" y="2071800"/>
            <a:ext cx="4402800" cy="2855880"/>
            <a:chOff x="1106280" y="2071800"/>
            <a:chExt cx="4402800" cy="2855880"/>
          </a:xfrm>
        </p:grpSpPr>
        <p:sp>
          <p:nvSpPr>
            <p:cNvPr id="251" name="TextBox 36"/>
            <p:cNvSpPr/>
            <p:nvPr/>
          </p:nvSpPr>
          <p:spPr>
            <a:xfrm>
              <a:off x="3212640" y="207180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下面的计算对吗？不对的请改正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组合 24"/>
            <p:cNvGrpSpPr/>
            <p:nvPr/>
          </p:nvGrpSpPr>
          <p:grpSpPr>
            <a:xfrm>
              <a:off x="1106280" y="2614320"/>
              <a:ext cx="4402800" cy="2313360"/>
              <a:chOff x="1106280" y="2614320"/>
              <a:chExt cx="4402800" cy="2313360"/>
            </a:xfrm>
          </p:grpSpPr>
          <p:grpSp>
            <p:nvGrpSpPr>
              <p:cNvPr id="253" name="组合 15"/>
              <p:cNvGrpSpPr/>
              <p:nvPr/>
            </p:nvGrpSpPr>
            <p:grpSpPr>
              <a:xfrm>
                <a:off x="1106280" y="2614320"/>
                <a:ext cx="4402800" cy="2313360"/>
                <a:chOff x="1106280" y="2614320"/>
                <a:chExt cx="4402800" cy="2313360"/>
              </a:xfrm>
            </p:grpSpPr>
            <p:grpSp>
              <p:nvGrpSpPr>
                <p:cNvPr id="254" name="组合 17"/>
                <p:cNvGrpSpPr/>
                <p:nvPr/>
              </p:nvGrpSpPr>
              <p:grpSpPr>
                <a:xfrm>
                  <a:off x="1106280" y="2614320"/>
                  <a:ext cx="3282840" cy="2288520"/>
                  <a:chOff x="1106280" y="2614320"/>
                  <a:chExt cx="3282840" cy="2288520"/>
                </a:xfrm>
              </p:grpSpPr>
              <p:grpSp>
                <p:nvGrpSpPr>
                  <p:cNvPr id="255" name="组合 20"/>
                  <p:cNvGrpSpPr/>
                  <p:nvPr/>
                </p:nvGrpSpPr>
                <p:grpSpPr>
                  <a:xfrm>
                    <a:off x="1613520" y="2614320"/>
                    <a:ext cx="2775600" cy="2288520"/>
                    <a:chOff x="1613520" y="2614320"/>
                    <a:chExt cx="2775600" cy="2288520"/>
                  </a:xfrm>
                </p:grpSpPr>
                <p:sp>
                  <p:nvSpPr>
                    <p:cNvPr id="256" name="矩形 34"/>
                    <p:cNvSpPr/>
                    <p:nvPr/>
                  </p:nvSpPr>
                  <p:spPr>
                    <a:xfrm>
                      <a:off x="1613520" y="3213720"/>
                      <a:ext cx="561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57" name="组合 1"/>
                    <p:cNvGrpSpPr/>
                    <p:nvPr/>
                  </p:nvGrpSpPr>
                  <p:grpSpPr>
                    <a:xfrm>
                      <a:off x="2097360" y="2614320"/>
                      <a:ext cx="2291760" cy="2288520"/>
                      <a:chOff x="2097360" y="2614320"/>
                      <a:chExt cx="2291760" cy="2288520"/>
                    </a:xfrm>
                  </p:grpSpPr>
                  <p:sp>
                    <p:nvSpPr>
                      <p:cNvPr id="258" name="TextBox 36"/>
                      <p:cNvSpPr/>
                      <p:nvPr/>
                    </p:nvSpPr>
                    <p:spPr>
                      <a:xfrm>
                        <a:off x="2153520" y="2614320"/>
                        <a:ext cx="2235600" cy="228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      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7    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楷体_GB2312"/>
                          </a:rPr>
                          <a:t>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3  5  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3  5  0    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      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59" name="直接连接符 37"/>
                      <p:cNvSpPr/>
                      <p:nvPr/>
                    </p:nvSpPr>
                    <p:spPr>
                      <a:xfrm>
                        <a:off x="2097360" y="4287960"/>
                        <a:ext cx="15912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grpSp>
                <p:nvGrpSpPr>
                  <p:cNvPr id="260" name="组合 21"/>
                  <p:cNvGrpSpPr/>
                  <p:nvPr/>
                </p:nvGrpSpPr>
                <p:grpSpPr>
                  <a:xfrm>
                    <a:off x="1106280" y="2680200"/>
                    <a:ext cx="2521440" cy="1258560"/>
                    <a:chOff x="1106280" y="2680200"/>
                    <a:chExt cx="2521440" cy="1258560"/>
                  </a:xfrm>
                </p:grpSpPr>
                <p:sp>
                  <p:nvSpPr>
                    <p:cNvPr id="261" name="直接连接符 32"/>
                    <p:cNvSpPr/>
                    <p:nvPr/>
                  </p:nvSpPr>
                  <p:spPr>
                    <a:xfrm>
                      <a:off x="2176200" y="3207960"/>
                      <a:ext cx="1451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2" name="弧形 33"/>
                    <p:cNvSpPr/>
                    <p:nvPr/>
                  </p:nvSpPr>
                  <p:spPr>
                    <a:xfrm rot="4684800">
                      <a:off x="1164960" y="2813040"/>
                      <a:ext cx="1076760" cy="9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1076180" h="993775">
                          <a:moveTo>
                            <a:pt x="538090" y="0"/>
                          </a:moveTo>
                          <a:cubicBezTo>
                            <a:pt x="733849" y="0"/>
                            <a:pt x="914164" y="98173"/>
                            <a:pt x="1008929" y="256350"/>
                          </a:cubicBezTo>
                          <a:lnTo>
                            <a:pt x="538090" y="496888"/>
                          </a:lnTo>
                          <a:lnTo>
                            <a:pt x="538090" y="0"/>
                          </a:lnTo>
                          <a:close/>
                        </a:path>
                        <a:path fill="none" w="1076180" h="993775">
                          <a:moveTo>
                            <a:pt x="538090" y="0"/>
                          </a:moveTo>
                          <a:cubicBezTo>
                            <a:pt x="733849" y="0"/>
                            <a:pt x="914164" y="98173"/>
                            <a:pt x="1008929" y="25635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63" name="矩形 18"/>
                <p:cNvSpPr/>
                <p:nvPr/>
              </p:nvSpPr>
              <p:spPr>
                <a:xfrm>
                  <a:off x="3653640" y="4285080"/>
                  <a:ext cx="1125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(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</a:rPr>
                    <a:t>　　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矩形 19"/>
                <p:cNvSpPr/>
                <p:nvPr/>
              </p:nvSpPr>
              <p:spPr>
                <a:xfrm>
                  <a:off x="4779720" y="299736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</a:rPr>
                    <a:t>改正：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矩形 26"/>
              <p:cNvSpPr/>
              <p:nvPr/>
            </p:nvSpPr>
            <p:spPr>
              <a:xfrm>
                <a:off x="1602360" y="27162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6" name="矩形 39"/>
          <p:cNvSpPr/>
          <p:nvPr/>
        </p:nvSpPr>
        <p:spPr>
          <a:xfrm>
            <a:off x="3984480" y="431172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4"/>
          <p:cNvGrpSpPr/>
          <p:nvPr/>
        </p:nvGrpSpPr>
        <p:grpSpPr>
          <a:xfrm>
            <a:off x="5324040" y="2635200"/>
            <a:ext cx="3353400" cy="2837160"/>
            <a:chOff x="5324040" y="2635200"/>
            <a:chExt cx="3353400" cy="2837160"/>
          </a:xfrm>
        </p:grpSpPr>
        <p:grpSp>
          <p:nvGrpSpPr>
            <p:cNvPr id="268" name="组合 41"/>
            <p:cNvGrpSpPr/>
            <p:nvPr/>
          </p:nvGrpSpPr>
          <p:grpSpPr>
            <a:xfrm>
              <a:off x="5324040" y="2635200"/>
              <a:ext cx="3353400" cy="2837160"/>
              <a:chOff x="5324040" y="2635200"/>
              <a:chExt cx="3353400" cy="2837160"/>
            </a:xfrm>
          </p:grpSpPr>
          <p:grpSp>
            <p:nvGrpSpPr>
              <p:cNvPr id="269" name="组合 3"/>
              <p:cNvGrpSpPr/>
              <p:nvPr/>
            </p:nvGrpSpPr>
            <p:grpSpPr>
              <a:xfrm>
                <a:off x="5783400" y="2635200"/>
                <a:ext cx="2894040" cy="2837160"/>
                <a:chOff x="5783400" y="2635200"/>
                <a:chExt cx="2894040" cy="2837160"/>
              </a:xfrm>
            </p:grpSpPr>
            <p:sp>
              <p:nvSpPr>
                <p:cNvPr id="270" name="矩形 13"/>
                <p:cNvSpPr/>
                <p:nvPr/>
              </p:nvSpPr>
              <p:spPr>
                <a:xfrm>
                  <a:off x="5783400" y="3282120"/>
                  <a:ext cx="561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71" name="组合 1"/>
                <p:cNvGrpSpPr/>
                <p:nvPr/>
              </p:nvGrpSpPr>
              <p:grpSpPr>
                <a:xfrm>
                  <a:off x="6315120" y="2635200"/>
                  <a:ext cx="2362320" cy="2837160"/>
                  <a:chOff x="6315120" y="2635200"/>
                  <a:chExt cx="2362320" cy="2837160"/>
                </a:xfrm>
              </p:grpSpPr>
              <p:sp>
                <p:nvSpPr>
                  <p:cNvPr id="272" name="TextBox 15"/>
                  <p:cNvSpPr/>
                  <p:nvPr/>
                </p:nvSpPr>
                <p:spPr>
                  <a:xfrm>
                    <a:off x="6444720" y="2635200"/>
                    <a:ext cx="2232720" cy="283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3  5  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3  5  7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直接连接符 49"/>
                  <p:cNvSpPr/>
                  <p:nvPr/>
                </p:nvSpPr>
                <p:spPr>
                  <a:xfrm>
                    <a:off x="6315120" y="4308480"/>
                    <a:ext cx="158940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74" name="组合 16"/>
              <p:cNvGrpSpPr/>
              <p:nvPr/>
            </p:nvGrpSpPr>
            <p:grpSpPr>
              <a:xfrm>
                <a:off x="5324040" y="2701440"/>
                <a:ext cx="2521080" cy="1258560"/>
                <a:chOff x="5324040" y="2701440"/>
                <a:chExt cx="2521080" cy="1258560"/>
              </a:xfrm>
            </p:grpSpPr>
            <p:sp>
              <p:nvSpPr>
                <p:cNvPr id="275" name="直接连接符 44"/>
                <p:cNvSpPr/>
                <p:nvPr/>
              </p:nvSpPr>
              <p:spPr>
                <a:xfrm>
                  <a:off x="6392520" y="3228840"/>
                  <a:ext cx="14526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弧形 45"/>
                <p:cNvSpPr/>
                <p:nvPr/>
              </p:nvSpPr>
              <p:spPr>
                <a:xfrm rot="4684800">
                  <a:off x="5382360" y="2834280"/>
                  <a:ext cx="107676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6347" h="992253">
                      <a:moveTo>
                        <a:pt x="538173" y="0"/>
                      </a:moveTo>
                      <a:cubicBezTo>
                        <a:pt x="733825" y="0"/>
                        <a:pt x="914064" y="97886"/>
                        <a:pt x="1008899" y="255647"/>
                      </a:cubicBezTo>
                      <a:lnTo>
                        <a:pt x="538174" y="496127"/>
                      </a:lnTo>
                      <a:cubicBezTo>
                        <a:pt x="538174" y="330751"/>
                        <a:pt x="538173" y="165376"/>
                        <a:pt x="538173" y="0"/>
                      </a:cubicBezTo>
                      <a:close/>
                    </a:path>
                    <a:path fill="none" w="1076347" h="992253">
                      <a:moveTo>
                        <a:pt x="538173" y="0"/>
                      </a:moveTo>
                      <a:cubicBezTo>
                        <a:pt x="733825" y="0"/>
                        <a:pt x="914064" y="97886"/>
                        <a:pt x="1008899" y="255647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77" name="矩形 50"/>
            <p:cNvSpPr/>
            <p:nvPr/>
          </p:nvSpPr>
          <p:spPr>
            <a:xfrm>
              <a:off x="5740200" y="28112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50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矩形 52"/>
          <p:cNvSpPr/>
          <p:nvPr/>
        </p:nvSpPr>
        <p:spPr>
          <a:xfrm>
            <a:off x="2789280" y="51195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整十数乘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5"/>
          <p:cNvGrpSpPr/>
          <p:nvPr/>
        </p:nvGrpSpPr>
        <p:grpSpPr>
          <a:xfrm>
            <a:off x="1082880" y="1752480"/>
            <a:ext cx="4403520" cy="3019680"/>
            <a:chOff x="1082880" y="1752480"/>
            <a:chExt cx="4403520" cy="3019680"/>
          </a:xfrm>
        </p:grpSpPr>
        <p:sp>
          <p:nvSpPr>
            <p:cNvPr id="280" name="TextBox 36"/>
            <p:cNvSpPr/>
            <p:nvPr/>
          </p:nvSpPr>
          <p:spPr>
            <a:xfrm>
              <a:off x="3058560" y="175248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下面的计算对吗？不对请改正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1" name="组合 7"/>
            <p:cNvGrpSpPr/>
            <p:nvPr/>
          </p:nvGrpSpPr>
          <p:grpSpPr>
            <a:xfrm>
              <a:off x="1082880" y="2459160"/>
              <a:ext cx="4403520" cy="2313000"/>
              <a:chOff x="1082880" y="2459160"/>
              <a:chExt cx="4403520" cy="2313000"/>
            </a:xfrm>
          </p:grpSpPr>
          <p:grpSp>
            <p:nvGrpSpPr>
              <p:cNvPr id="282" name="组合 15"/>
              <p:cNvGrpSpPr/>
              <p:nvPr/>
            </p:nvGrpSpPr>
            <p:grpSpPr>
              <a:xfrm>
                <a:off x="1082880" y="2459160"/>
                <a:ext cx="4403520" cy="2313000"/>
                <a:chOff x="1082880" y="2459160"/>
                <a:chExt cx="4403520" cy="2313000"/>
              </a:xfrm>
            </p:grpSpPr>
            <p:grpSp>
              <p:nvGrpSpPr>
                <p:cNvPr id="283" name="组合 17"/>
                <p:cNvGrpSpPr/>
                <p:nvPr/>
              </p:nvGrpSpPr>
              <p:grpSpPr>
                <a:xfrm>
                  <a:off x="1082880" y="2459160"/>
                  <a:ext cx="3283200" cy="2288520"/>
                  <a:chOff x="1082880" y="2459160"/>
                  <a:chExt cx="3283200" cy="2288520"/>
                </a:xfrm>
              </p:grpSpPr>
              <p:grpSp>
                <p:nvGrpSpPr>
                  <p:cNvPr id="284" name="组合 20"/>
                  <p:cNvGrpSpPr/>
                  <p:nvPr/>
                </p:nvGrpSpPr>
                <p:grpSpPr>
                  <a:xfrm>
                    <a:off x="1589760" y="2459160"/>
                    <a:ext cx="2776320" cy="2288520"/>
                    <a:chOff x="1589760" y="2459160"/>
                    <a:chExt cx="2776320" cy="2288520"/>
                  </a:xfrm>
                </p:grpSpPr>
                <p:sp>
                  <p:nvSpPr>
                    <p:cNvPr id="285" name="矩形 17"/>
                    <p:cNvSpPr/>
                    <p:nvPr/>
                  </p:nvSpPr>
                  <p:spPr>
                    <a:xfrm>
                      <a:off x="1589760" y="3058560"/>
                      <a:ext cx="561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286" name="组合 1"/>
                    <p:cNvGrpSpPr/>
                    <p:nvPr/>
                  </p:nvGrpSpPr>
                  <p:grpSpPr>
                    <a:xfrm>
                      <a:off x="2073960" y="2459160"/>
                      <a:ext cx="2292120" cy="2288520"/>
                      <a:chOff x="2073960" y="2459160"/>
                      <a:chExt cx="2292120" cy="2288520"/>
                    </a:xfrm>
                  </p:grpSpPr>
                  <p:sp>
                    <p:nvSpPr>
                      <p:cNvPr id="287" name="TextBox 19"/>
                      <p:cNvSpPr/>
                      <p:nvPr/>
                    </p:nvSpPr>
                    <p:spPr>
                      <a:xfrm>
                        <a:off x="2131920" y="2459160"/>
                        <a:ext cx="2234160" cy="228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      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7    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楷体_GB2312"/>
                          </a:rPr>
                          <a:t>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2  9  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2  9  4    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        </a:t>
                        </a: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4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88" name="直接连接符 20"/>
                      <p:cNvSpPr/>
                      <p:nvPr/>
                    </p:nvSpPr>
                    <p:spPr>
                      <a:xfrm>
                        <a:off x="2073960" y="4132080"/>
                        <a:ext cx="15930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grpSp>
                <p:nvGrpSpPr>
                  <p:cNvPr id="289" name="组合 21"/>
                  <p:cNvGrpSpPr/>
                  <p:nvPr/>
                </p:nvGrpSpPr>
                <p:grpSpPr>
                  <a:xfrm>
                    <a:off x="1082880" y="2525040"/>
                    <a:ext cx="2521800" cy="1258200"/>
                    <a:chOff x="1082880" y="2525040"/>
                    <a:chExt cx="2521800" cy="1258200"/>
                  </a:xfrm>
                </p:grpSpPr>
                <p:sp>
                  <p:nvSpPr>
                    <p:cNvPr id="290" name="直接连接符 15"/>
                    <p:cNvSpPr/>
                    <p:nvPr/>
                  </p:nvSpPr>
                  <p:spPr>
                    <a:xfrm>
                      <a:off x="2151720" y="3052440"/>
                      <a:ext cx="145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91" name="弧形 16"/>
                    <p:cNvSpPr/>
                    <p:nvPr/>
                  </p:nvSpPr>
                  <p:spPr>
                    <a:xfrm rot="4684800">
                      <a:off x="1141200" y="2657880"/>
                      <a:ext cx="107640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1076612" h="991915">
                          <a:moveTo>
                            <a:pt x="538306" y="0"/>
                          </a:moveTo>
                          <a:cubicBezTo>
                            <a:pt x="733958" y="0"/>
                            <a:pt x="914205" y="97805"/>
                            <a:pt x="1009082" y="255452"/>
                          </a:cubicBezTo>
                          <a:lnTo>
                            <a:pt x="538306" y="495958"/>
                          </a:lnTo>
                          <a:lnTo>
                            <a:pt x="538306" y="0"/>
                          </a:lnTo>
                          <a:close/>
                        </a:path>
                        <a:path fill="none" w="1076612" h="991915">
                          <a:moveTo>
                            <a:pt x="538306" y="0"/>
                          </a:moveTo>
                          <a:cubicBezTo>
                            <a:pt x="733958" y="0"/>
                            <a:pt x="914205" y="97805"/>
                            <a:pt x="1009082" y="25545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2" name="矩形 18"/>
                <p:cNvSpPr/>
                <p:nvPr/>
              </p:nvSpPr>
              <p:spPr>
                <a:xfrm>
                  <a:off x="3630600" y="4129560"/>
                  <a:ext cx="1125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(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</a:rPr>
                    <a:t>　　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3" name="矩形 19"/>
                <p:cNvSpPr/>
                <p:nvPr/>
              </p:nvSpPr>
              <p:spPr>
                <a:xfrm>
                  <a:off x="4757040" y="284220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Calibri"/>
                    </a:rPr>
                    <a:t>改正：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4" name="矩形 9"/>
              <p:cNvSpPr/>
              <p:nvPr/>
            </p:nvSpPr>
            <p:spPr>
              <a:xfrm>
                <a:off x="1579320" y="25610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0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5" name="矩形 22"/>
          <p:cNvSpPr/>
          <p:nvPr/>
        </p:nvSpPr>
        <p:spPr>
          <a:xfrm>
            <a:off x="3948120" y="4168800"/>
            <a:ext cx="4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23"/>
          <p:cNvGrpSpPr/>
          <p:nvPr/>
        </p:nvGrpSpPr>
        <p:grpSpPr>
          <a:xfrm>
            <a:off x="5324040" y="2457360"/>
            <a:ext cx="3353400" cy="2837160"/>
            <a:chOff x="5324040" y="2457360"/>
            <a:chExt cx="3353400" cy="2837160"/>
          </a:xfrm>
        </p:grpSpPr>
        <p:grpSp>
          <p:nvGrpSpPr>
            <p:cNvPr id="297" name="组合 24"/>
            <p:cNvGrpSpPr/>
            <p:nvPr/>
          </p:nvGrpSpPr>
          <p:grpSpPr>
            <a:xfrm>
              <a:off x="5324040" y="2457360"/>
              <a:ext cx="3353400" cy="2837160"/>
              <a:chOff x="5324040" y="2457360"/>
              <a:chExt cx="3353400" cy="2837160"/>
            </a:xfrm>
          </p:grpSpPr>
          <p:grpSp>
            <p:nvGrpSpPr>
              <p:cNvPr id="298" name="组合 3"/>
              <p:cNvGrpSpPr/>
              <p:nvPr/>
            </p:nvGrpSpPr>
            <p:grpSpPr>
              <a:xfrm>
                <a:off x="5783400" y="2457360"/>
                <a:ext cx="2894040" cy="2837160"/>
                <a:chOff x="5783400" y="2457360"/>
                <a:chExt cx="2894040" cy="2837160"/>
              </a:xfrm>
            </p:grpSpPr>
            <p:sp>
              <p:nvSpPr>
                <p:cNvPr id="299" name="矩形 13"/>
                <p:cNvSpPr/>
                <p:nvPr/>
              </p:nvSpPr>
              <p:spPr>
                <a:xfrm>
                  <a:off x="5783400" y="3104280"/>
                  <a:ext cx="561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4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00" name="组合 1"/>
                <p:cNvGrpSpPr/>
                <p:nvPr/>
              </p:nvGrpSpPr>
              <p:grpSpPr>
                <a:xfrm>
                  <a:off x="6315120" y="2457360"/>
                  <a:ext cx="2362320" cy="2837160"/>
                  <a:chOff x="6315120" y="2457360"/>
                  <a:chExt cx="2362320" cy="2837160"/>
                </a:xfrm>
              </p:grpSpPr>
              <p:sp>
                <p:nvSpPr>
                  <p:cNvPr id="301" name="TextBox 15"/>
                  <p:cNvSpPr/>
                  <p:nvPr/>
                </p:nvSpPr>
                <p:spPr>
                  <a:xfrm>
                    <a:off x="6444720" y="2457360"/>
                    <a:ext cx="2232720" cy="283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  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楷体_GB2312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2  9 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2  5  2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3  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2" name="直接连接符 33"/>
                  <p:cNvSpPr/>
                  <p:nvPr/>
                </p:nvSpPr>
                <p:spPr>
                  <a:xfrm>
                    <a:off x="6315120" y="4130640"/>
                    <a:ext cx="158940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03" name="组合 16"/>
              <p:cNvGrpSpPr/>
              <p:nvPr/>
            </p:nvGrpSpPr>
            <p:grpSpPr>
              <a:xfrm>
                <a:off x="5324040" y="2523600"/>
                <a:ext cx="2521080" cy="1258560"/>
                <a:chOff x="5324040" y="2523600"/>
                <a:chExt cx="2521080" cy="1258560"/>
              </a:xfrm>
            </p:grpSpPr>
            <p:sp>
              <p:nvSpPr>
                <p:cNvPr id="304" name="直接连接符 28"/>
                <p:cNvSpPr/>
                <p:nvPr/>
              </p:nvSpPr>
              <p:spPr>
                <a:xfrm>
                  <a:off x="6392520" y="3051000"/>
                  <a:ext cx="14526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5" name="弧形 29"/>
                <p:cNvSpPr/>
                <p:nvPr/>
              </p:nvSpPr>
              <p:spPr>
                <a:xfrm rot="4684800">
                  <a:off x="5382360" y="2656440"/>
                  <a:ext cx="1076760" cy="992160"/>
                </a:xfrm>
                <a:custGeom>
                  <a:avLst/>
                  <a:gdLst/>
                  <a:ahLst/>
                  <a:rect l="l" t="t" r="r" b="b"/>
                  <a:pathLst>
                    <a:path stroke="0" w="1076347" h="992253">
                      <a:moveTo>
                        <a:pt x="538173" y="0"/>
                      </a:moveTo>
                      <a:cubicBezTo>
                        <a:pt x="733825" y="0"/>
                        <a:pt x="914064" y="97886"/>
                        <a:pt x="1008899" y="255647"/>
                      </a:cubicBezTo>
                      <a:lnTo>
                        <a:pt x="538174" y="496127"/>
                      </a:lnTo>
                      <a:cubicBezTo>
                        <a:pt x="538174" y="330751"/>
                        <a:pt x="538173" y="165376"/>
                        <a:pt x="538173" y="0"/>
                      </a:cubicBezTo>
                      <a:close/>
                    </a:path>
                    <a:path fill="none" w="1076347" h="992253">
                      <a:moveTo>
                        <a:pt x="538173" y="0"/>
                      </a:moveTo>
                      <a:cubicBezTo>
                        <a:pt x="733825" y="0"/>
                        <a:pt x="914064" y="97886"/>
                        <a:pt x="1008899" y="255647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06" name="矩形 25"/>
            <p:cNvSpPr/>
            <p:nvPr/>
          </p:nvSpPr>
          <p:spPr>
            <a:xfrm>
              <a:off x="5740200" y="26334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40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矩形 34"/>
          <p:cNvSpPr/>
          <p:nvPr/>
        </p:nvSpPr>
        <p:spPr>
          <a:xfrm>
            <a:off x="1879560" y="49435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商偏大，用积减被除数得余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1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1193760" y="1521000"/>
            <a:ext cx="6504120" cy="353376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2810520" y="53420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"/>
          <p:cNvGrpSpPr/>
          <p:nvPr/>
        </p:nvGrpSpPr>
        <p:grpSpPr>
          <a:xfrm>
            <a:off x="925560" y="2122560"/>
            <a:ext cx="5384880" cy="703080"/>
            <a:chOff x="925560" y="2122560"/>
            <a:chExt cx="5384880" cy="703080"/>
          </a:xfrm>
        </p:grpSpPr>
        <p:pic>
          <p:nvPicPr>
            <p:cNvPr id="83" name="Picture 5" descr=""/>
            <p:cNvPicPr/>
            <p:nvPr/>
          </p:nvPicPr>
          <p:blipFill>
            <a:blip r:embed="rId1"/>
            <a:stretch/>
          </p:blipFill>
          <p:spPr>
            <a:xfrm>
              <a:off x="925560" y="2249280"/>
              <a:ext cx="6778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4"/>
            <p:cNvSpPr/>
            <p:nvPr/>
          </p:nvSpPr>
          <p:spPr>
            <a:xfrm>
              <a:off x="2244240" y="212256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号鞋的钱，能买几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号鞋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985680" y="2932200"/>
            <a:ext cx="23907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573360" y="296064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6039000" y="3011400"/>
            <a:ext cx="2457360" cy="178128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2"/>
          <p:cNvGrpSpPr/>
          <p:nvPr/>
        </p:nvGrpSpPr>
        <p:grpSpPr>
          <a:xfrm>
            <a:off x="5018040" y="5218200"/>
            <a:ext cx="3040200" cy="646200"/>
            <a:chOff x="5018040" y="5218200"/>
            <a:chExt cx="3040200" cy="646200"/>
          </a:xfrm>
        </p:grpSpPr>
        <p:pic>
          <p:nvPicPr>
            <p:cNvPr id="89" name="组合 7" descr=""/>
            <p:cNvPicPr/>
            <p:nvPr/>
          </p:nvPicPr>
          <p:blipFill>
            <a:blip r:embed="rId5"/>
            <a:stretch/>
          </p:blipFill>
          <p:spPr>
            <a:xfrm>
              <a:off x="5018040" y="5218200"/>
              <a:ext cx="3040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矩形 1"/>
            <p:cNvSpPr/>
            <p:nvPr/>
          </p:nvSpPr>
          <p:spPr>
            <a:xfrm>
              <a:off x="6374520" y="5337720"/>
              <a:ext cx="650160" cy="346680"/>
            </a:xfrm>
            <a:prstGeom prst="rect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4"/>
          <p:cNvGrpSpPr/>
          <p:nvPr/>
        </p:nvGrpSpPr>
        <p:grpSpPr>
          <a:xfrm>
            <a:off x="1265400" y="5173560"/>
            <a:ext cx="2787480" cy="743040"/>
            <a:chOff x="1265400" y="5173560"/>
            <a:chExt cx="2787480" cy="743040"/>
          </a:xfrm>
        </p:grpSpPr>
        <p:pic>
          <p:nvPicPr>
            <p:cNvPr id="92" name="Picture 16" descr=""/>
            <p:cNvPicPr/>
            <p:nvPr/>
          </p:nvPicPr>
          <p:blipFill>
            <a:blip r:embed="rId6"/>
            <a:stretch/>
          </p:blipFill>
          <p:spPr>
            <a:xfrm>
              <a:off x="1265400" y="5173560"/>
              <a:ext cx="46620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7" descr=""/>
            <p:cNvPicPr/>
            <p:nvPr/>
          </p:nvPicPr>
          <p:blipFill>
            <a:blip r:embed="rId7"/>
            <a:stretch/>
          </p:blipFill>
          <p:spPr>
            <a:xfrm>
              <a:off x="1815480" y="5240520"/>
              <a:ext cx="223740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矩形 9"/>
          <p:cNvSpPr/>
          <p:nvPr/>
        </p:nvSpPr>
        <p:spPr>
          <a:xfrm>
            <a:off x="6359040" y="531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1"/>
          <p:cNvGrpSpPr/>
          <p:nvPr/>
        </p:nvGrpSpPr>
        <p:grpSpPr>
          <a:xfrm>
            <a:off x="479520" y="1000080"/>
            <a:ext cx="6465960" cy="1018440"/>
            <a:chOff x="479520" y="1000080"/>
            <a:chExt cx="6465960" cy="1018440"/>
          </a:xfrm>
        </p:grpSpPr>
        <p:sp>
          <p:nvSpPr>
            <p:cNvPr id="96" name="文本框 13"/>
            <p:cNvSpPr/>
            <p:nvPr/>
          </p:nvSpPr>
          <p:spPr>
            <a:xfrm>
              <a:off x="1638000" y="1071360"/>
              <a:ext cx="5307480" cy="9471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两、三位数除以两位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不调商）的笔算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8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2"/>
          <p:cNvSpPr/>
          <p:nvPr/>
        </p:nvSpPr>
        <p:spPr>
          <a:xfrm>
            <a:off x="1790640" y="25401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组合 3"/>
          <p:cNvGrpSpPr/>
          <p:nvPr/>
        </p:nvGrpSpPr>
        <p:grpSpPr>
          <a:xfrm>
            <a:off x="4486320" y="1612800"/>
            <a:ext cx="4105080" cy="1743120"/>
            <a:chOff x="4486320" y="1612800"/>
            <a:chExt cx="4105080" cy="1743120"/>
          </a:xfrm>
        </p:grpSpPr>
        <p:pic>
          <p:nvPicPr>
            <p:cNvPr id="100" name="Picture 8" descr=""/>
            <p:cNvPicPr/>
            <p:nvPr/>
          </p:nvPicPr>
          <p:blipFill>
            <a:blip r:embed="rId1"/>
            <a:stretch/>
          </p:blipFill>
          <p:spPr>
            <a:xfrm>
              <a:off x="7489800" y="1723680"/>
              <a:ext cx="1101600" cy="16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"/>
            <p:cNvPicPr/>
            <p:nvPr/>
          </p:nvPicPr>
          <p:blipFill>
            <a:blip r:embed="rId2"/>
            <a:stretch/>
          </p:blipFill>
          <p:spPr>
            <a:xfrm>
              <a:off x="4486320" y="1612800"/>
              <a:ext cx="300348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矩形 1"/>
          <p:cNvSpPr/>
          <p:nvPr/>
        </p:nvSpPr>
        <p:spPr>
          <a:xfrm>
            <a:off x="1235160" y="1908000"/>
            <a:ext cx="27432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1235160" y="1433520"/>
            <a:ext cx="2968560" cy="2685960"/>
            <a:chOff x="1235160" y="1433520"/>
            <a:chExt cx="2968560" cy="2685960"/>
          </a:xfrm>
        </p:grpSpPr>
        <p:sp>
          <p:nvSpPr>
            <p:cNvPr id="104" name="矩形 3"/>
            <p:cNvSpPr/>
            <p:nvPr/>
          </p:nvSpPr>
          <p:spPr>
            <a:xfrm>
              <a:off x="1235160" y="1433520"/>
              <a:ext cx="2968560" cy="2347920"/>
            </a:xfrm>
            <a:prstGeom prst="rect">
              <a:avLst/>
            </a:prstGeom>
            <a:solidFill>
              <a:srgbClr val="bce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除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接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可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把它看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来试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2"/>
            <p:cNvGrpSpPr/>
            <p:nvPr/>
          </p:nvGrpSpPr>
          <p:grpSpPr>
            <a:xfrm>
              <a:off x="1260360" y="1477800"/>
              <a:ext cx="2743200" cy="2641680"/>
              <a:chOff x="1260360" y="1477800"/>
              <a:chExt cx="2743200" cy="2641680"/>
            </a:xfrm>
          </p:grpSpPr>
          <p:sp>
            <p:nvSpPr>
              <p:cNvPr id="106" name="直接连接符 6"/>
              <p:cNvSpPr/>
              <p:nvPr/>
            </p:nvSpPr>
            <p:spPr>
              <a:xfrm>
                <a:off x="2719440" y="2076120"/>
                <a:ext cx="547560" cy="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7" name="组合 2"/>
              <p:cNvGrpSpPr/>
              <p:nvPr/>
            </p:nvGrpSpPr>
            <p:grpSpPr>
              <a:xfrm>
                <a:off x="1260360" y="1477800"/>
                <a:ext cx="2743200" cy="2641680"/>
                <a:chOff x="1260360" y="1477800"/>
                <a:chExt cx="2743200" cy="2641680"/>
              </a:xfrm>
            </p:grpSpPr>
            <p:grpSp>
              <p:nvGrpSpPr>
                <p:cNvPr id="108" name="组合 2"/>
                <p:cNvGrpSpPr/>
                <p:nvPr/>
              </p:nvGrpSpPr>
              <p:grpSpPr>
                <a:xfrm>
                  <a:off x="1260360" y="1477800"/>
                  <a:ext cx="2743200" cy="2641680"/>
                  <a:chOff x="1260360" y="1477800"/>
                  <a:chExt cx="2743200" cy="2641680"/>
                </a:xfrm>
              </p:grpSpPr>
              <p:sp>
                <p:nvSpPr>
                  <p:cNvPr id="109" name="矩形 15"/>
                  <p:cNvSpPr/>
                  <p:nvPr/>
                </p:nvSpPr>
                <p:spPr>
                  <a:xfrm>
                    <a:off x="2139840" y="1617480"/>
                    <a:ext cx="492120" cy="458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 algn="ctr"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10" name="组合 18"/>
                  <p:cNvGrpSpPr/>
                  <p:nvPr/>
                </p:nvGrpSpPr>
                <p:grpSpPr>
                  <a:xfrm>
                    <a:off x="1260360" y="1477800"/>
                    <a:ext cx="2743200" cy="2641680"/>
                    <a:chOff x="1260360" y="1477800"/>
                    <a:chExt cx="2743200" cy="2641680"/>
                  </a:xfrm>
                </p:grpSpPr>
                <p:sp>
                  <p:nvSpPr>
                    <p:cNvPr id="111" name="矩形 14"/>
                    <p:cNvSpPr/>
                    <p:nvPr/>
                  </p:nvSpPr>
                  <p:spPr>
                    <a:xfrm>
                      <a:off x="2878920" y="1477800"/>
                      <a:ext cx="485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12" name="组合 17"/>
                    <p:cNvGrpSpPr/>
                    <p:nvPr/>
                  </p:nvGrpSpPr>
                  <p:grpSpPr>
                    <a:xfrm>
                      <a:off x="1260360" y="1611720"/>
                      <a:ext cx="2743200" cy="2507760"/>
                      <a:chOff x="1260360" y="1611720"/>
                      <a:chExt cx="2743200" cy="2507760"/>
                    </a:xfrm>
                  </p:grpSpPr>
                  <p:sp>
                    <p:nvSpPr>
                      <p:cNvPr id="113" name="矩形 4"/>
                      <p:cNvSpPr/>
                      <p:nvPr/>
                    </p:nvSpPr>
                    <p:spPr>
                      <a:xfrm>
                        <a:off x="2719080" y="1911600"/>
                        <a:ext cx="65088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  9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14" name="组合 16"/>
                      <p:cNvGrpSpPr/>
                      <p:nvPr/>
                    </p:nvGrpSpPr>
                    <p:grpSpPr>
                      <a:xfrm>
                        <a:off x="1260360" y="1611720"/>
                        <a:ext cx="2743200" cy="2507760"/>
                        <a:chOff x="1260360" y="1611720"/>
                        <a:chExt cx="2743200" cy="2507760"/>
                      </a:xfrm>
                    </p:grpSpPr>
                    <p:sp>
                      <p:nvSpPr>
                        <p:cNvPr id="115" name="矩形 24"/>
                        <p:cNvSpPr/>
                        <p:nvPr/>
                      </p:nvSpPr>
                      <p:spPr>
                        <a:xfrm>
                          <a:off x="1260360" y="1611720"/>
                          <a:ext cx="2743200" cy="2507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5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16" name="矩形 25"/>
                        <p:cNvSpPr/>
                        <p:nvPr/>
                      </p:nvSpPr>
                      <p:spPr>
                        <a:xfrm>
                          <a:off x="2142720" y="1871640"/>
                          <a:ext cx="485640" cy="642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5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r>
                            <a: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3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17" name="弧形 1"/>
                <p:cNvSpPr/>
                <p:nvPr/>
              </p:nvSpPr>
              <p:spPr>
                <a:xfrm>
                  <a:off x="1815840" y="1544400"/>
                  <a:ext cx="914400" cy="914400"/>
                </a:xfrm>
                <a:custGeom>
                  <a:avLst/>
                  <a:gdLst/>
                  <a:ahLst/>
                  <a:rect l="l" t="t" r="r" b="b"/>
                  <a:pathLst>
                    <a:path stroke="0" w="914400" h="914400">
                      <a:moveTo>
                        <a:pt x="910383" y="517676"/>
                      </a:moveTo>
                      <a:cubicBezTo>
                        <a:pt x="893851" y="641563"/>
                        <a:pt x="827321" y="753282"/>
                        <a:pt x="726272" y="826838"/>
                      </a:cubicBezTo>
                      <a:lnTo>
                        <a:pt x="457200" y="457200"/>
                      </a:lnTo>
                      <a:lnTo>
                        <a:pt x="910383" y="517676"/>
                      </a:lnTo>
                      <a:close/>
                    </a:path>
                    <a:path fill="none" w="914400" h="914400">
                      <a:moveTo>
                        <a:pt x="910383" y="517676"/>
                      </a:moveTo>
                      <a:cubicBezTo>
                        <a:pt x="893851" y="641563"/>
                        <a:pt x="827321" y="753282"/>
                        <a:pt x="726272" y="826838"/>
                      </a:cubicBezTo>
                    </a:path>
                  </a:pathLst>
                </a:custGeom>
                <a:noFill/>
                <a:ln w="2556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18" name="组合 7"/>
          <p:cNvGrpSpPr/>
          <p:nvPr/>
        </p:nvGrpSpPr>
        <p:grpSpPr>
          <a:xfrm>
            <a:off x="5492880" y="3287880"/>
            <a:ext cx="1253520" cy="1811160"/>
            <a:chOff x="5492880" y="3287880"/>
            <a:chExt cx="1253520" cy="1811160"/>
          </a:xfrm>
        </p:grpSpPr>
        <p:grpSp>
          <p:nvGrpSpPr>
            <p:cNvPr id="119" name="组合 5"/>
            <p:cNvGrpSpPr/>
            <p:nvPr/>
          </p:nvGrpSpPr>
          <p:grpSpPr>
            <a:xfrm>
              <a:off x="5492880" y="3287880"/>
              <a:ext cx="1253520" cy="1811160"/>
              <a:chOff x="5492880" y="3287880"/>
              <a:chExt cx="1253520" cy="1811160"/>
            </a:xfrm>
          </p:grpSpPr>
          <p:sp>
            <p:nvSpPr>
              <p:cNvPr id="120" name="直接连接符 29"/>
              <p:cNvSpPr/>
              <p:nvPr/>
            </p:nvSpPr>
            <p:spPr>
              <a:xfrm>
                <a:off x="5964120" y="4577040"/>
                <a:ext cx="760320" cy="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" name="组合 4"/>
              <p:cNvGrpSpPr/>
              <p:nvPr/>
            </p:nvGrpSpPr>
            <p:grpSpPr>
              <a:xfrm>
                <a:off x="5492880" y="3287880"/>
                <a:ext cx="1253520" cy="1811160"/>
                <a:chOff x="5492880" y="3287880"/>
                <a:chExt cx="1253520" cy="1811160"/>
              </a:xfrm>
            </p:grpSpPr>
            <p:sp>
              <p:nvSpPr>
                <p:cNvPr id="122" name="矩形 19"/>
                <p:cNvSpPr/>
                <p:nvPr/>
              </p:nvSpPr>
              <p:spPr>
                <a:xfrm>
                  <a:off x="6098400" y="3793680"/>
                  <a:ext cx="6379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  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  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3" name="组合 33"/>
                <p:cNvGrpSpPr/>
                <p:nvPr/>
              </p:nvGrpSpPr>
              <p:grpSpPr>
                <a:xfrm>
                  <a:off x="5492880" y="3287880"/>
                  <a:ext cx="1253520" cy="1811160"/>
                  <a:chOff x="5492880" y="3287880"/>
                  <a:chExt cx="1253520" cy="1811160"/>
                </a:xfrm>
              </p:grpSpPr>
              <p:grpSp>
                <p:nvGrpSpPr>
                  <p:cNvPr id="124" name="组合 32"/>
                  <p:cNvGrpSpPr/>
                  <p:nvPr/>
                </p:nvGrpSpPr>
                <p:grpSpPr>
                  <a:xfrm>
                    <a:off x="5492880" y="3287880"/>
                    <a:ext cx="1244160" cy="1001520"/>
                    <a:chOff x="5492880" y="3287880"/>
                    <a:chExt cx="1244160" cy="1001520"/>
                  </a:xfrm>
                </p:grpSpPr>
                <p:grpSp>
                  <p:nvGrpSpPr>
                    <p:cNvPr id="125" name="组合 31"/>
                    <p:cNvGrpSpPr/>
                    <p:nvPr/>
                  </p:nvGrpSpPr>
                  <p:grpSpPr>
                    <a:xfrm>
                      <a:off x="5492880" y="3646800"/>
                      <a:ext cx="1231560" cy="642600"/>
                      <a:chOff x="5492880" y="3646800"/>
                      <a:chExt cx="1231560" cy="642600"/>
                    </a:xfrm>
                  </p:grpSpPr>
                  <p:sp>
                    <p:nvSpPr>
                      <p:cNvPr id="126" name="直接连接符 21"/>
                      <p:cNvSpPr/>
                      <p:nvPr/>
                    </p:nvSpPr>
                    <p:spPr>
                      <a:xfrm>
                        <a:off x="6068880" y="3878640"/>
                        <a:ext cx="6555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27" name="矩形 26"/>
                      <p:cNvSpPr/>
                      <p:nvPr/>
                    </p:nvSpPr>
                    <p:spPr>
                      <a:xfrm>
                        <a:off x="5492880" y="3646800"/>
                        <a:ext cx="576000" cy="642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5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3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28" name="矩形 27"/>
                    <p:cNvSpPr/>
                    <p:nvPr/>
                  </p:nvSpPr>
                  <p:spPr>
                    <a:xfrm>
                      <a:off x="6251760" y="3287880"/>
                      <a:ext cx="485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29" name="矩形 30"/>
                  <p:cNvSpPr/>
                  <p:nvPr/>
                </p:nvSpPr>
                <p:spPr>
                  <a:xfrm>
                    <a:off x="6261120" y="4456440"/>
                    <a:ext cx="485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pic>
          <p:nvPicPr>
            <p:cNvPr id="130" name="Picture 34" descr=""/>
            <p:cNvPicPr/>
            <p:nvPr/>
          </p:nvPicPr>
          <p:blipFill>
            <a:blip r:embed="rId3"/>
            <a:stretch/>
          </p:blipFill>
          <p:spPr>
            <a:xfrm>
              <a:off x="5881680" y="3867120"/>
              <a:ext cx="212400" cy="32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892080" y="1182600"/>
            <a:ext cx="1524240" cy="92736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"/>
          <p:cNvGrpSpPr/>
          <p:nvPr/>
        </p:nvGrpSpPr>
        <p:grpSpPr>
          <a:xfrm>
            <a:off x="3705120" y="1925640"/>
            <a:ext cx="4405320" cy="865080"/>
            <a:chOff x="3705120" y="1925640"/>
            <a:chExt cx="4405320" cy="865080"/>
          </a:xfrm>
        </p:grpSpPr>
        <p:pic>
          <p:nvPicPr>
            <p:cNvPr id="135" name="Picture 11" descr=""/>
            <p:cNvPicPr/>
            <p:nvPr/>
          </p:nvPicPr>
          <p:blipFill>
            <a:blip r:embed="rId2"/>
            <a:stretch/>
          </p:blipFill>
          <p:spPr>
            <a:xfrm>
              <a:off x="3705120" y="1925640"/>
              <a:ext cx="3181680" cy="60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" descr=""/>
            <p:cNvPicPr/>
            <p:nvPr/>
          </p:nvPicPr>
          <p:blipFill>
            <a:blip r:embed="rId3"/>
            <a:stretch/>
          </p:blipFill>
          <p:spPr>
            <a:xfrm>
              <a:off x="6981840" y="1983960"/>
              <a:ext cx="1128600" cy="80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3"/>
          <p:cNvSpPr/>
          <p:nvPr/>
        </p:nvSpPr>
        <p:spPr>
          <a:xfrm>
            <a:off x="3547080" y="342900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2÷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6228360" y="3427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4÷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1115640" y="34290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÷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0"/>
          <p:cNvSpPr/>
          <p:nvPr/>
        </p:nvSpPr>
        <p:spPr>
          <a:xfrm>
            <a:off x="2006640" y="354348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······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1"/>
          <p:cNvSpPr/>
          <p:nvPr/>
        </p:nvSpPr>
        <p:spPr>
          <a:xfrm>
            <a:off x="4592520" y="35514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······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7296840" y="35514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144144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一说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3"/>
          <p:cNvGrpSpPr/>
          <p:nvPr/>
        </p:nvGrpSpPr>
        <p:grpSpPr>
          <a:xfrm>
            <a:off x="740880" y="1959120"/>
            <a:ext cx="7698240" cy="2837160"/>
            <a:chOff x="740880" y="1959120"/>
            <a:chExt cx="7698240" cy="2837160"/>
          </a:xfrm>
        </p:grpSpPr>
        <p:sp>
          <p:nvSpPr>
            <p:cNvPr id="148" name="TextBox 36"/>
            <p:cNvSpPr/>
            <p:nvPr/>
          </p:nvSpPr>
          <p:spPr>
            <a:xfrm>
              <a:off x="964800" y="1959120"/>
              <a:ext cx="74743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我会填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把除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看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试商，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×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算一算，商正好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把除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看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试商，除数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商容易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调商时要调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些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组合 10"/>
            <p:cNvGrpSpPr/>
            <p:nvPr/>
          </p:nvGrpSpPr>
          <p:grpSpPr>
            <a:xfrm>
              <a:off x="740880" y="2148120"/>
              <a:ext cx="1894320" cy="1266840"/>
              <a:chOff x="740880" y="2148120"/>
              <a:chExt cx="1894320" cy="1266840"/>
            </a:xfrm>
          </p:grpSpPr>
          <p:grpSp>
            <p:nvGrpSpPr>
              <p:cNvPr id="150" name="组合 11"/>
              <p:cNvGrpSpPr/>
              <p:nvPr/>
            </p:nvGrpSpPr>
            <p:grpSpPr>
              <a:xfrm>
                <a:off x="740880" y="2148120"/>
                <a:ext cx="1894320" cy="1266840"/>
                <a:chOff x="740880" y="2148120"/>
                <a:chExt cx="1894320" cy="1266840"/>
              </a:xfrm>
            </p:grpSpPr>
            <p:grpSp>
              <p:nvGrpSpPr>
                <p:cNvPr id="151" name="组合 25"/>
                <p:cNvGrpSpPr/>
                <p:nvPr/>
              </p:nvGrpSpPr>
              <p:grpSpPr>
                <a:xfrm>
                  <a:off x="740880" y="2148120"/>
                  <a:ext cx="1720080" cy="1266840"/>
                  <a:chOff x="740880" y="2148120"/>
                  <a:chExt cx="1720080" cy="1266840"/>
                </a:xfrm>
              </p:grpSpPr>
              <p:sp>
                <p:nvSpPr>
                  <p:cNvPr id="152" name="直接连接符 12"/>
                  <p:cNvSpPr/>
                  <p:nvPr/>
                </p:nvSpPr>
                <p:spPr>
                  <a:xfrm>
                    <a:off x="1844280" y="2678760"/>
                    <a:ext cx="61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" name="弧形 13"/>
                  <p:cNvSpPr/>
                  <p:nvPr/>
                </p:nvSpPr>
                <p:spPr>
                  <a:xfrm rot="4684800">
                    <a:off x="815760" y="2267640"/>
                    <a:ext cx="1077840" cy="102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170" h="991466">
                        <a:moveTo>
                          <a:pt x="538585" y="0"/>
                        </a:moveTo>
                        <a:cubicBezTo>
                          <a:pt x="673045" y="0"/>
                          <a:pt x="802643" y="46294"/>
                          <a:pt x="901902" y="129781"/>
                        </a:cubicBezTo>
                        <a:lnTo>
                          <a:pt x="538585" y="495733"/>
                        </a:lnTo>
                        <a:lnTo>
                          <a:pt x="538585" y="0"/>
                        </a:lnTo>
                        <a:close/>
                      </a:path>
                      <a:path fill="none" w="1077170" h="991466">
                        <a:moveTo>
                          <a:pt x="538585" y="0"/>
                        </a:moveTo>
                        <a:cubicBezTo>
                          <a:pt x="673045" y="0"/>
                          <a:pt x="802643" y="46294"/>
                          <a:pt x="901902" y="12978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54" name="TextBox 15"/>
                <p:cNvSpPr/>
                <p:nvPr/>
              </p:nvSpPr>
              <p:spPr>
                <a:xfrm>
                  <a:off x="1855800" y="2525040"/>
                  <a:ext cx="779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5" name="矩形 36"/>
              <p:cNvSpPr/>
              <p:nvPr/>
            </p:nvSpPr>
            <p:spPr>
              <a:xfrm>
                <a:off x="1208160" y="265356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组合 10"/>
            <p:cNvGrpSpPr/>
            <p:nvPr/>
          </p:nvGrpSpPr>
          <p:grpSpPr>
            <a:xfrm>
              <a:off x="746280" y="3248280"/>
              <a:ext cx="1894320" cy="1266840"/>
              <a:chOff x="746280" y="3248280"/>
              <a:chExt cx="1894320" cy="1266840"/>
            </a:xfrm>
          </p:grpSpPr>
          <p:grpSp>
            <p:nvGrpSpPr>
              <p:cNvPr id="157" name="组合 11"/>
              <p:cNvGrpSpPr/>
              <p:nvPr/>
            </p:nvGrpSpPr>
            <p:grpSpPr>
              <a:xfrm>
                <a:off x="746280" y="3248280"/>
                <a:ext cx="1894320" cy="1266840"/>
                <a:chOff x="746280" y="3248280"/>
                <a:chExt cx="1894320" cy="1266840"/>
              </a:xfrm>
            </p:grpSpPr>
            <p:grpSp>
              <p:nvGrpSpPr>
                <p:cNvPr id="158" name="组合 25"/>
                <p:cNvGrpSpPr/>
                <p:nvPr/>
              </p:nvGrpSpPr>
              <p:grpSpPr>
                <a:xfrm>
                  <a:off x="746280" y="3248280"/>
                  <a:ext cx="1720080" cy="1266840"/>
                  <a:chOff x="746280" y="3248280"/>
                  <a:chExt cx="1720080" cy="1266840"/>
                </a:xfrm>
              </p:grpSpPr>
              <p:sp>
                <p:nvSpPr>
                  <p:cNvPr id="159" name="直接连接符 19"/>
                  <p:cNvSpPr/>
                  <p:nvPr/>
                </p:nvSpPr>
                <p:spPr>
                  <a:xfrm>
                    <a:off x="1849680" y="3778920"/>
                    <a:ext cx="616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弧形 20"/>
                  <p:cNvSpPr/>
                  <p:nvPr/>
                </p:nvSpPr>
                <p:spPr>
                  <a:xfrm rot="4684800">
                    <a:off x="821160" y="3367800"/>
                    <a:ext cx="1077840" cy="1027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171" h="991465">
                        <a:moveTo>
                          <a:pt x="538585" y="0"/>
                        </a:moveTo>
                        <a:cubicBezTo>
                          <a:pt x="673045" y="0"/>
                          <a:pt x="802643" y="46293"/>
                          <a:pt x="901902" y="129780"/>
                        </a:cubicBezTo>
                        <a:lnTo>
                          <a:pt x="538586" y="495733"/>
                        </a:lnTo>
                        <a:cubicBezTo>
                          <a:pt x="538586" y="330489"/>
                          <a:pt x="538585" y="165244"/>
                          <a:pt x="538585" y="0"/>
                        </a:cubicBezTo>
                        <a:close/>
                      </a:path>
                      <a:path fill="none" w="1077171" h="991465">
                        <a:moveTo>
                          <a:pt x="538585" y="0"/>
                        </a:moveTo>
                        <a:cubicBezTo>
                          <a:pt x="673045" y="0"/>
                          <a:pt x="802643" y="46293"/>
                          <a:pt x="901902" y="12978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61" name="TextBox 15"/>
                <p:cNvSpPr/>
                <p:nvPr/>
              </p:nvSpPr>
              <p:spPr>
                <a:xfrm>
                  <a:off x="1861200" y="3625200"/>
                  <a:ext cx="779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" name="矩形 36"/>
              <p:cNvSpPr/>
              <p:nvPr/>
            </p:nvSpPr>
            <p:spPr>
              <a:xfrm>
                <a:off x="1213560" y="375372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3" name="矩形 4"/>
          <p:cNvSpPr/>
          <p:nvPr/>
        </p:nvSpPr>
        <p:spPr>
          <a:xfrm>
            <a:off x="4735440" y="264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1582920" y="31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2807640" y="31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3855960" y="317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5"/>
          <p:cNvSpPr/>
          <p:nvPr/>
        </p:nvSpPr>
        <p:spPr>
          <a:xfrm>
            <a:off x="4724640" y="373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6"/>
          <p:cNvSpPr/>
          <p:nvPr/>
        </p:nvSpPr>
        <p:spPr>
          <a:xfrm>
            <a:off x="7419960" y="3730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7"/>
          <p:cNvSpPr/>
          <p:nvPr/>
        </p:nvSpPr>
        <p:spPr>
          <a:xfrm>
            <a:off x="2882880" y="428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8"/>
          <p:cNvSpPr/>
          <p:nvPr/>
        </p:nvSpPr>
        <p:spPr>
          <a:xfrm>
            <a:off x="5545080" y="41752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7"/>
          <p:cNvGrpSpPr/>
          <p:nvPr/>
        </p:nvGrpSpPr>
        <p:grpSpPr>
          <a:xfrm>
            <a:off x="1003320" y="2363760"/>
            <a:ext cx="7392960" cy="1992960"/>
            <a:chOff x="1003320" y="2363760"/>
            <a:chExt cx="7392960" cy="1992960"/>
          </a:xfrm>
        </p:grpSpPr>
        <p:sp>
          <p:nvSpPr>
            <p:cNvPr id="172" name="TextBox 36"/>
            <p:cNvSpPr/>
            <p:nvPr/>
          </p:nvSpPr>
          <p:spPr>
            <a:xfrm>
              <a:off x="1003320" y="2363760"/>
              <a:ext cx="739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4960" indent="-53496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下面各题，把除数看作几十来试商？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写在括号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34960" indent="-53496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　　　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组合 10"/>
            <p:cNvGrpSpPr/>
            <p:nvPr/>
          </p:nvGrpSpPr>
          <p:grpSpPr>
            <a:xfrm>
              <a:off x="1020960" y="3097440"/>
              <a:ext cx="1832760" cy="1259280"/>
              <a:chOff x="1020960" y="3097440"/>
              <a:chExt cx="1832760" cy="1259280"/>
            </a:xfrm>
          </p:grpSpPr>
          <p:grpSp>
            <p:nvGrpSpPr>
              <p:cNvPr id="174" name="组合 11"/>
              <p:cNvGrpSpPr/>
              <p:nvPr/>
            </p:nvGrpSpPr>
            <p:grpSpPr>
              <a:xfrm>
                <a:off x="1020960" y="3097440"/>
                <a:ext cx="1832760" cy="1259280"/>
                <a:chOff x="1020960" y="3097440"/>
                <a:chExt cx="1832760" cy="1259280"/>
              </a:xfrm>
            </p:grpSpPr>
            <p:grpSp>
              <p:nvGrpSpPr>
                <p:cNvPr id="175" name="组合 25"/>
                <p:cNvGrpSpPr/>
                <p:nvPr/>
              </p:nvGrpSpPr>
              <p:grpSpPr>
                <a:xfrm>
                  <a:off x="1020960" y="3097440"/>
                  <a:ext cx="1664640" cy="1259280"/>
                  <a:chOff x="1020960" y="3097440"/>
                  <a:chExt cx="1664640" cy="1259280"/>
                </a:xfrm>
              </p:grpSpPr>
              <p:sp>
                <p:nvSpPr>
                  <p:cNvPr id="176" name="直接连接符 7"/>
                  <p:cNvSpPr/>
                  <p:nvPr/>
                </p:nvSpPr>
                <p:spPr>
                  <a:xfrm>
                    <a:off x="2090160" y="3624480"/>
                    <a:ext cx="59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弧形 8"/>
                  <p:cNvSpPr/>
                  <p:nvPr/>
                </p:nvSpPr>
                <p:spPr>
                  <a:xfrm rot="4684800">
                    <a:off x="1078920" y="3230640"/>
                    <a:ext cx="107748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657" h="991455">
                        <a:moveTo>
                          <a:pt x="538828" y="0"/>
                        </a:moveTo>
                        <a:cubicBezTo>
                          <a:pt x="673306" y="0"/>
                          <a:pt x="802924" y="46264"/>
                          <a:pt x="902218" y="129702"/>
                        </a:cubicBezTo>
                        <a:lnTo>
                          <a:pt x="538829" y="495728"/>
                        </a:lnTo>
                        <a:cubicBezTo>
                          <a:pt x="538829" y="330485"/>
                          <a:pt x="538828" y="165243"/>
                          <a:pt x="538828" y="0"/>
                        </a:cubicBezTo>
                        <a:close/>
                      </a:path>
                      <a:path fill="none" w="1077657" h="991455">
                        <a:moveTo>
                          <a:pt x="538828" y="0"/>
                        </a:moveTo>
                        <a:cubicBezTo>
                          <a:pt x="673306" y="0"/>
                          <a:pt x="802924" y="46264"/>
                          <a:pt x="902218" y="12970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78" name="TextBox 15"/>
                <p:cNvSpPr/>
                <p:nvPr/>
              </p:nvSpPr>
              <p:spPr>
                <a:xfrm>
                  <a:off x="2101320" y="3470400"/>
                  <a:ext cx="752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9" name="矩形 36"/>
              <p:cNvSpPr/>
              <p:nvPr/>
            </p:nvSpPr>
            <p:spPr>
              <a:xfrm>
                <a:off x="1472760" y="359928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组合 10"/>
            <p:cNvGrpSpPr/>
            <p:nvPr/>
          </p:nvGrpSpPr>
          <p:grpSpPr>
            <a:xfrm>
              <a:off x="5859000" y="3078000"/>
              <a:ext cx="1832760" cy="1259280"/>
              <a:chOff x="5859000" y="3078000"/>
              <a:chExt cx="1832760" cy="1259280"/>
            </a:xfrm>
          </p:grpSpPr>
          <p:grpSp>
            <p:nvGrpSpPr>
              <p:cNvPr id="181" name="组合 11"/>
              <p:cNvGrpSpPr/>
              <p:nvPr/>
            </p:nvGrpSpPr>
            <p:grpSpPr>
              <a:xfrm>
                <a:off x="5859000" y="3078000"/>
                <a:ext cx="1832760" cy="1259280"/>
                <a:chOff x="5859000" y="3078000"/>
                <a:chExt cx="1832760" cy="1259280"/>
              </a:xfrm>
            </p:grpSpPr>
            <p:grpSp>
              <p:nvGrpSpPr>
                <p:cNvPr id="182" name="组合 25"/>
                <p:cNvGrpSpPr/>
                <p:nvPr/>
              </p:nvGrpSpPr>
              <p:grpSpPr>
                <a:xfrm>
                  <a:off x="5859000" y="3078000"/>
                  <a:ext cx="1664640" cy="1259280"/>
                  <a:chOff x="5859000" y="3078000"/>
                  <a:chExt cx="1664640" cy="1259280"/>
                </a:xfrm>
              </p:grpSpPr>
              <p:sp>
                <p:nvSpPr>
                  <p:cNvPr id="183" name="直接连接符 14"/>
                  <p:cNvSpPr/>
                  <p:nvPr/>
                </p:nvSpPr>
                <p:spPr>
                  <a:xfrm>
                    <a:off x="6928200" y="3605040"/>
                    <a:ext cx="59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弧形 15"/>
                  <p:cNvSpPr/>
                  <p:nvPr/>
                </p:nvSpPr>
                <p:spPr>
                  <a:xfrm rot="4684800">
                    <a:off x="5916960" y="3211200"/>
                    <a:ext cx="107748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7657" h="991454">
                        <a:moveTo>
                          <a:pt x="538828" y="0"/>
                        </a:moveTo>
                        <a:cubicBezTo>
                          <a:pt x="673306" y="0"/>
                          <a:pt x="802924" y="46263"/>
                          <a:pt x="902217" y="129702"/>
                        </a:cubicBezTo>
                        <a:lnTo>
                          <a:pt x="538829" y="495727"/>
                        </a:lnTo>
                        <a:cubicBezTo>
                          <a:pt x="538829" y="330485"/>
                          <a:pt x="538828" y="165242"/>
                          <a:pt x="538828" y="0"/>
                        </a:cubicBezTo>
                        <a:close/>
                      </a:path>
                      <a:path fill="none" w="1077657" h="991454">
                        <a:moveTo>
                          <a:pt x="538828" y="0"/>
                        </a:moveTo>
                        <a:cubicBezTo>
                          <a:pt x="673306" y="0"/>
                          <a:pt x="802924" y="46263"/>
                          <a:pt x="902217" y="12970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5" name="TextBox 15"/>
                <p:cNvSpPr/>
                <p:nvPr/>
              </p:nvSpPr>
              <p:spPr>
                <a:xfrm>
                  <a:off x="6939360" y="3450960"/>
                  <a:ext cx="752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6" name="矩形 36"/>
              <p:cNvSpPr/>
              <p:nvPr/>
            </p:nvSpPr>
            <p:spPr>
              <a:xfrm>
                <a:off x="6310800" y="357984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矩形 19"/>
          <p:cNvSpPr/>
          <p:nvPr/>
        </p:nvSpPr>
        <p:spPr>
          <a:xfrm>
            <a:off x="6072120" y="29368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8"/>
          <p:cNvSpPr/>
          <p:nvPr/>
        </p:nvSpPr>
        <p:spPr>
          <a:xfrm>
            <a:off x="1309680" y="300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4"/>
          <p:cNvGrpSpPr/>
          <p:nvPr/>
        </p:nvGrpSpPr>
        <p:grpSpPr>
          <a:xfrm>
            <a:off x="1027080" y="1306440"/>
            <a:ext cx="7137360" cy="3231720"/>
            <a:chOff x="1027080" y="1306440"/>
            <a:chExt cx="7137360" cy="3231720"/>
          </a:xfrm>
        </p:grpSpPr>
        <p:sp>
          <p:nvSpPr>
            <p:cNvPr id="190" name="TextBox 36"/>
            <p:cNvSpPr/>
            <p:nvPr/>
          </p:nvSpPr>
          <p:spPr>
            <a:xfrm>
              <a:off x="1027080" y="1306440"/>
              <a:ext cx="713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根据试商情况写出准确的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6"/>
            <p:cNvSpPr/>
            <p:nvPr/>
          </p:nvSpPr>
          <p:spPr>
            <a:xfrm>
              <a:off x="1027080" y="3895560"/>
              <a:ext cx="713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496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商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     商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      商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组合 13"/>
            <p:cNvGrpSpPr/>
            <p:nvPr/>
          </p:nvGrpSpPr>
          <p:grpSpPr>
            <a:xfrm>
              <a:off x="1117080" y="2026080"/>
              <a:ext cx="2173320" cy="1739880"/>
              <a:chOff x="1117080" y="2026080"/>
              <a:chExt cx="2173320" cy="1739880"/>
            </a:xfrm>
          </p:grpSpPr>
          <p:grpSp>
            <p:nvGrpSpPr>
              <p:cNvPr id="193" name="组合 10"/>
              <p:cNvGrpSpPr/>
              <p:nvPr/>
            </p:nvGrpSpPr>
            <p:grpSpPr>
              <a:xfrm>
                <a:off x="1117080" y="2026080"/>
                <a:ext cx="2173320" cy="1739880"/>
                <a:chOff x="1117080" y="2026080"/>
                <a:chExt cx="2173320" cy="1739880"/>
              </a:xfrm>
            </p:grpSpPr>
            <p:grpSp>
              <p:nvGrpSpPr>
                <p:cNvPr id="194" name="组合 11"/>
                <p:cNvGrpSpPr/>
                <p:nvPr/>
              </p:nvGrpSpPr>
              <p:grpSpPr>
                <a:xfrm>
                  <a:off x="1117080" y="2026080"/>
                  <a:ext cx="2173320" cy="1739880"/>
                  <a:chOff x="1117080" y="2026080"/>
                  <a:chExt cx="2173320" cy="1739880"/>
                </a:xfrm>
              </p:grpSpPr>
              <p:grpSp>
                <p:nvGrpSpPr>
                  <p:cNvPr id="195" name="组合 25"/>
                  <p:cNvGrpSpPr/>
                  <p:nvPr/>
                </p:nvGrpSpPr>
                <p:grpSpPr>
                  <a:xfrm>
                    <a:off x="1117080" y="2151720"/>
                    <a:ext cx="1664280" cy="1259640"/>
                    <a:chOff x="1117080" y="2151720"/>
                    <a:chExt cx="1664280" cy="1259640"/>
                  </a:xfrm>
                </p:grpSpPr>
                <p:sp>
                  <p:nvSpPr>
                    <p:cNvPr id="196" name="直接连接符 8"/>
                    <p:cNvSpPr/>
                    <p:nvPr/>
                  </p:nvSpPr>
                  <p:spPr>
                    <a:xfrm>
                      <a:off x="2186280" y="2678760"/>
                      <a:ext cx="5950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弧形 9"/>
                    <p:cNvSpPr/>
                    <p:nvPr/>
                  </p:nvSpPr>
                  <p:spPr>
                    <a:xfrm rot="4684800">
                      <a:off x="1174680" y="2285280"/>
                      <a:ext cx="107784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1077093" h="991520">
                          <a:moveTo>
                            <a:pt x="538546" y="0"/>
                          </a:moveTo>
                          <a:cubicBezTo>
                            <a:pt x="673008" y="0"/>
                            <a:pt x="802607" y="46304"/>
                            <a:pt x="901862" y="129808"/>
                          </a:cubicBezTo>
                          <a:lnTo>
                            <a:pt x="538547" y="495760"/>
                          </a:lnTo>
                          <a:cubicBezTo>
                            <a:pt x="538547" y="330507"/>
                            <a:pt x="538546" y="165253"/>
                            <a:pt x="538546" y="0"/>
                          </a:cubicBezTo>
                          <a:close/>
                        </a:path>
                        <a:path fill="none" w="1077093" h="991520">
                          <a:moveTo>
                            <a:pt x="538546" y="0"/>
                          </a:moveTo>
                          <a:cubicBezTo>
                            <a:pt x="673008" y="0"/>
                            <a:pt x="802607" y="46304"/>
                            <a:pt x="901862" y="1298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8" name="TextBox 15"/>
                  <p:cNvSpPr/>
                  <p:nvPr/>
                </p:nvSpPr>
                <p:spPr>
                  <a:xfrm>
                    <a:off x="2196720" y="2026080"/>
                    <a:ext cx="1093680" cy="173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7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9" name="矩形 36"/>
                <p:cNvSpPr/>
                <p:nvPr/>
              </p:nvSpPr>
              <p:spPr>
                <a:xfrm>
                  <a:off x="1511280" y="2654280"/>
                  <a:ext cx="72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82440" indent="-824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矩形 11"/>
              <p:cNvSpPr/>
              <p:nvPr/>
            </p:nvSpPr>
            <p:spPr>
              <a:xfrm>
                <a:off x="1559880" y="211464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0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12"/>
              <p:cNvSpPr/>
              <p:nvPr/>
            </p:nvSpPr>
            <p:spPr>
              <a:xfrm>
                <a:off x="2112480" y="33033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2" name="组合 15"/>
            <p:cNvGrpSpPr/>
            <p:nvPr/>
          </p:nvGrpSpPr>
          <p:grpSpPr>
            <a:xfrm>
              <a:off x="3290400" y="2043360"/>
              <a:ext cx="1832760" cy="1739880"/>
              <a:chOff x="3290400" y="2043360"/>
              <a:chExt cx="1832760" cy="1739880"/>
            </a:xfrm>
          </p:grpSpPr>
          <p:grpSp>
            <p:nvGrpSpPr>
              <p:cNvPr id="203" name="组合 10"/>
              <p:cNvGrpSpPr/>
              <p:nvPr/>
            </p:nvGrpSpPr>
            <p:grpSpPr>
              <a:xfrm>
                <a:off x="3290400" y="2043360"/>
                <a:ext cx="1832760" cy="1739880"/>
                <a:chOff x="3290400" y="2043360"/>
                <a:chExt cx="1832760" cy="1739880"/>
              </a:xfrm>
            </p:grpSpPr>
            <p:grpSp>
              <p:nvGrpSpPr>
                <p:cNvPr id="204" name="组合 11"/>
                <p:cNvGrpSpPr/>
                <p:nvPr/>
              </p:nvGrpSpPr>
              <p:grpSpPr>
                <a:xfrm>
                  <a:off x="3290400" y="2043360"/>
                  <a:ext cx="1832760" cy="1739880"/>
                  <a:chOff x="3290400" y="2043360"/>
                  <a:chExt cx="1832760" cy="1739880"/>
                </a:xfrm>
              </p:grpSpPr>
              <p:grpSp>
                <p:nvGrpSpPr>
                  <p:cNvPr id="205" name="组合 25"/>
                  <p:cNvGrpSpPr/>
                  <p:nvPr/>
                </p:nvGrpSpPr>
                <p:grpSpPr>
                  <a:xfrm>
                    <a:off x="3290400" y="2169000"/>
                    <a:ext cx="1664640" cy="1259640"/>
                    <a:chOff x="3290400" y="2169000"/>
                    <a:chExt cx="1664640" cy="1259640"/>
                  </a:xfrm>
                </p:grpSpPr>
                <p:sp>
                  <p:nvSpPr>
                    <p:cNvPr id="206" name="直接连接符 23"/>
                    <p:cNvSpPr/>
                    <p:nvPr/>
                  </p:nvSpPr>
                  <p:spPr>
                    <a:xfrm>
                      <a:off x="4359600" y="2696040"/>
                      <a:ext cx="595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7" name="弧形 24"/>
                    <p:cNvSpPr/>
                    <p:nvPr/>
                  </p:nvSpPr>
                  <p:spPr>
                    <a:xfrm rot="4684800">
                      <a:off x="3348000" y="2302560"/>
                      <a:ext cx="107784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1077094" h="991522">
                          <a:moveTo>
                            <a:pt x="538547" y="0"/>
                          </a:moveTo>
                          <a:cubicBezTo>
                            <a:pt x="673010" y="0"/>
                            <a:pt x="802608" y="46304"/>
                            <a:pt x="901863" y="129809"/>
                          </a:cubicBezTo>
                          <a:lnTo>
                            <a:pt x="538547" y="495761"/>
                          </a:lnTo>
                          <a:lnTo>
                            <a:pt x="538547" y="0"/>
                          </a:lnTo>
                          <a:close/>
                        </a:path>
                        <a:path fill="none" w="1077094" h="991522">
                          <a:moveTo>
                            <a:pt x="538547" y="0"/>
                          </a:moveTo>
                          <a:cubicBezTo>
                            <a:pt x="673010" y="0"/>
                            <a:pt x="802608" y="46304"/>
                            <a:pt x="901863" y="12980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8" name="TextBox 15"/>
                  <p:cNvSpPr/>
                  <p:nvPr/>
                </p:nvSpPr>
                <p:spPr>
                  <a:xfrm>
                    <a:off x="4370040" y="2043360"/>
                    <a:ext cx="753120" cy="173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09" name="矩形 36"/>
                <p:cNvSpPr/>
                <p:nvPr/>
              </p:nvSpPr>
              <p:spPr>
                <a:xfrm>
                  <a:off x="3684600" y="2671560"/>
                  <a:ext cx="72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82440" indent="-824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0" name="矩形 17"/>
              <p:cNvSpPr/>
              <p:nvPr/>
            </p:nvSpPr>
            <p:spPr>
              <a:xfrm>
                <a:off x="3733200" y="213192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矩形 18"/>
              <p:cNvSpPr/>
              <p:nvPr/>
            </p:nvSpPr>
            <p:spPr>
              <a:xfrm>
                <a:off x="4285800" y="332064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组合 26"/>
            <p:cNvGrpSpPr/>
            <p:nvPr/>
          </p:nvGrpSpPr>
          <p:grpSpPr>
            <a:xfrm>
              <a:off x="5475600" y="2028240"/>
              <a:ext cx="1832760" cy="1739880"/>
              <a:chOff x="5475600" y="2028240"/>
              <a:chExt cx="1832760" cy="1739880"/>
            </a:xfrm>
          </p:grpSpPr>
          <p:grpSp>
            <p:nvGrpSpPr>
              <p:cNvPr id="213" name="组合 10"/>
              <p:cNvGrpSpPr/>
              <p:nvPr/>
            </p:nvGrpSpPr>
            <p:grpSpPr>
              <a:xfrm>
                <a:off x="5475600" y="2028240"/>
                <a:ext cx="1832760" cy="1739880"/>
                <a:chOff x="5475600" y="2028240"/>
                <a:chExt cx="1832760" cy="1739880"/>
              </a:xfrm>
            </p:grpSpPr>
            <p:grpSp>
              <p:nvGrpSpPr>
                <p:cNvPr id="214" name="组合 11"/>
                <p:cNvGrpSpPr/>
                <p:nvPr/>
              </p:nvGrpSpPr>
              <p:grpSpPr>
                <a:xfrm>
                  <a:off x="5475600" y="2028240"/>
                  <a:ext cx="1832760" cy="1739880"/>
                  <a:chOff x="5475600" y="2028240"/>
                  <a:chExt cx="1832760" cy="1739880"/>
                </a:xfrm>
              </p:grpSpPr>
              <p:grpSp>
                <p:nvGrpSpPr>
                  <p:cNvPr id="215" name="组合 25"/>
                  <p:cNvGrpSpPr/>
                  <p:nvPr/>
                </p:nvGrpSpPr>
                <p:grpSpPr>
                  <a:xfrm>
                    <a:off x="5475600" y="2153880"/>
                    <a:ext cx="1664640" cy="1259640"/>
                    <a:chOff x="5475600" y="2153880"/>
                    <a:chExt cx="1664640" cy="1259640"/>
                  </a:xfrm>
                </p:grpSpPr>
                <p:sp>
                  <p:nvSpPr>
                    <p:cNvPr id="216" name="直接连接符 34"/>
                    <p:cNvSpPr/>
                    <p:nvPr/>
                  </p:nvSpPr>
                  <p:spPr>
                    <a:xfrm>
                      <a:off x="6544800" y="2680920"/>
                      <a:ext cx="595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17" name="弧形 35"/>
                    <p:cNvSpPr/>
                    <p:nvPr/>
                  </p:nvSpPr>
                  <p:spPr>
                    <a:xfrm rot="4684800">
                      <a:off x="5533200" y="2287440"/>
                      <a:ext cx="107784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1077094" h="991521">
                          <a:moveTo>
                            <a:pt x="538547" y="0"/>
                          </a:moveTo>
                          <a:cubicBezTo>
                            <a:pt x="673010" y="0"/>
                            <a:pt x="802608" y="46304"/>
                            <a:pt x="901863" y="129809"/>
                          </a:cubicBezTo>
                          <a:lnTo>
                            <a:pt x="538547" y="495761"/>
                          </a:lnTo>
                          <a:lnTo>
                            <a:pt x="538547" y="0"/>
                          </a:lnTo>
                          <a:close/>
                        </a:path>
                        <a:path fill="none" w="1077094" h="991521">
                          <a:moveTo>
                            <a:pt x="538547" y="0"/>
                          </a:moveTo>
                          <a:cubicBezTo>
                            <a:pt x="673010" y="0"/>
                            <a:pt x="802608" y="46304"/>
                            <a:pt x="901863" y="12980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8" name="TextBox 15"/>
                  <p:cNvSpPr/>
                  <p:nvPr/>
                </p:nvSpPr>
                <p:spPr>
                  <a:xfrm>
                    <a:off x="6555240" y="2028240"/>
                    <a:ext cx="753120" cy="1739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9" name="矩形 36"/>
                <p:cNvSpPr/>
                <p:nvPr/>
              </p:nvSpPr>
              <p:spPr>
                <a:xfrm>
                  <a:off x="5869800" y="2656440"/>
                  <a:ext cx="72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82440" indent="-824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0" name="矩形 28"/>
              <p:cNvSpPr/>
              <p:nvPr/>
            </p:nvSpPr>
            <p:spPr>
              <a:xfrm>
                <a:off x="5918400" y="21168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0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矩形 29"/>
              <p:cNvSpPr/>
              <p:nvPr/>
            </p:nvSpPr>
            <p:spPr>
              <a:xfrm>
                <a:off x="6494760" y="330552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2" name="矩形 37"/>
          <p:cNvSpPr/>
          <p:nvPr/>
        </p:nvSpPr>
        <p:spPr>
          <a:xfrm>
            <a:off x="6891480" y="387504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6"/>
          <p:cNvSpPr/>
          <p:nvPr/>
        </p:nvSpPr>
        <p:spPr>
          <a:xfrm>
            <a:off x="2428920" y="398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38"/>
          <p:cNvSpPr/>
          <p:nvPr/>
        </p:nvSpPr>
        <p:spPr>
          <a:xfrm>
            <a:off x="4618800" y="39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995400" y="26956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除数个位上的数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的除法试商时，一般用“四舍”法把除数看作与它接近的整十数来试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用“四舍”法试商时，商容易偏大。如果除数和商相乘的积比被除数大，就说明商大了，要调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1:18:18Z</dcterms:modified>
  <cp:revision>4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